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FDF-FE9A-4319-B2ED-E070A284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FCA-F53E-410D-B875-FE84F80A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85E-24E2-45FD-90F9-2750BA7E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B794-CD0C-4139-9C54-7A2815EB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F03-3A32-49C6-8F60-B9A14378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851-C1A7-4AD9-907B-05EAA83C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DBB-BEF9-4BC9-BB49-7B3C8742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B7E-58D3-4853-9732-079B8D89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4BC-3DDA-4F96-BD20-6A81A8ED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ABEC-5B3A-4AAB-ADBC-DF226CC2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273-3393-41D8-8740-92BBA91E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6BB-064A-4632-A8B3-3F6CDA56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D9B2-EC5B-4506-AAB4-B3E8D9A6C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he%20face%20of%20jesuss" descr=""/>
          <p:cNvPicPr/>
          <p:nvPr/>
        </p:nvPicPr>
        <p:blipFill>
          <a:blip r:embed="rId1"/>
          <a:stretch/>
        </p:blipFill>
        <p:spPr>
          <a:xfrm>
            <a:off x="3505320" y="0"/>
            <a:ext cx="5673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352680" cy="83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ألتك الغفـران يا من صلب فوق الصليـــب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لتُكَ العَوْن يا من تعذب من أجل أن يحيا الإنسان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1305" descr=""/>
          <p:cNvPicPr/>
          <p:nvPr/>
        </p:nvPicPr>
        <p:blipFill>
          <a:blip r:embed="rId1"/>
          <a:stretch/>
        </p:blipFill>
        <p:spPr>
          <a:xfrm>
            <a:off x="4273560" y="0"/>
            <a:ext cx="4870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4191120" cy="86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عرفت العذاب فأنقذنــي من ظلمة العـــذا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فأغفــر لي وسامحنـي وأمنـح قلبـي ايمانـ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Simplified Arabic"/>
              </a:rPr>
              <a:t>أغلــب به العالم من أجل محبتـــك ... </a:t>
            </a:r>
            <a:r>
              <a:rPr b="1" lang="ar-SA" sz="4400" spc="-1" strike="noStrike">
                <a:solidFill>
                  <a:srgbClr val="ffff99"/>
                </a:solidFill>
                <a:latin typeface="Times New Roman"/>
                <a:cs typeface="Times New Roman"/>
              </a:rPr>
              <a:t>آمين</a:t>
            </a:r>
            <a:r>
              <a:rPr b="0" lang="ar-SA" sz="2400" spc="-1" strike="noStrike">
                <a:solidFill>
                  <a:srgbClr val="cccc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9:35:57Z</dcterms:created>
  <dc:creator>SUZANNE.MD</dc:creator>
  <dc:description/>
  <dc:language>en-US</dc:language>
  <cp:lastModifiedBy>SUZANNE.MD</cp:lastModifiedBy>
  <dcterms:modified xsi:type="dcterms:W3CDTF">2003-03-16T09:41:50Z</dcterms:modified>
  <cp:revision>2</cp:revision>
  <dc:subject/>
  <dc:title>PowerPoint Presentation</dc:title>
</cp:coreProperties>
</file>